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38D-47C9-4FE5-BE4A-D526C3CD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00E-C171-4930-B765-B2355A50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76C-CF2E-46F6-B26D-B586D054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2BE-9CE3-484B-B11E-79F92F92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CD82-DFE9-49BF-B802-E4768989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0416-D93E-4BE3-A016-A1986EA9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EA26-CA0B-485F-93E7-FA80299F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DD12-7B2B-47D0-8737-06C7718B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0B23-679C-46A2-99C5-1A2F1BF8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4CBB-910C-428B-8A8F-7B43E6BF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79D4-89B7-46DC-B73A-FB3C1647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D11-FD2E-48A1-8920-C850B789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16EB-0EEA-4870-AF32-9A5909DB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1D43-B276-4849-B9DC-C9DF2F5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F7EA-A792-4F99-AD26-EB5BB90F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B73C-D044-408F-BEFF-CC0AAEE0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3DD6-DBBA-475E-9899-8148AC35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A40-FE8B-4C36-84E1-79C0D420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FFB-B9F6-4447-B5E0-CFB1D9BF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A6B-6A5C-4CA1-B30A-9945F9D1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C06-3FF2-4B54-8F40-0B663C06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AF0-B70F-4065-AC38-ACF00E1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0D8-F9A8-4EA9-8FBE-FC94633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2CE-5BB0-4679-9CC1-2AEDB749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5513-F1C6-4079-B9B2-EF177FA038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C105-11F0-4376-8F29-A67C70B826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gipet.uz/category/carstvennost-i-religiya/sarkofagi-i-grobnicy" TargetMode="External"/><Relationship Id="rId2" Type="http://schemas.openxmlformats.org/officeDocument/2006/relationships/hyperlink" Target="http://egipet.uz/category/carstvennost-i-religiya/sarkofagi-i-grobnicy" TargetMode="External"/><Relationship Id="rId3" Type="http://schemas.openxmlformats.org/officeDocument/2006/relationships/hyperlink" Target="http://egipet.uz/category/carstvennost-i-religiya/sarkofagi-i-grobnicy" TargetMode="External"/><Relationship Id="rId4" Type="http://schemas.openxmlformats.org/officeDocument/2006/relationships/hyperlink" Target="http://egipet.uz/category/carstvennost-i-religiya/sarkofagi-i-grobnicy" TargetMode="External"/><Relationship Id="rId5" Type="http://schemas.openxmlformats.org/officeDocument/2006/relationships/hyperlink" Target="http://egipet.uz/category/carstvennost-i-religiya/sarkofagi-i-grobnicy" TargetMode="External"/><Relationship Id="rId6" Type="http://schemas.openxmlformats.org/officeDocument/2006/relationships/hyperlink" Target="http://egipet.uz/category/carstvennost-i-religiya/sarkofagi-i-grobnicy" TargetMode="External"/><Relationship Id="rId7" Type="http://schemas.openxmlformats.org/officeDocument/2006/relationships/hyperlink" Target="http://egipet.uz/category/carstvennost-i-religiya/sarkofagi-i-grobnicy" TargetMode="External"/><Relationship Id="rId8" Type="http://schemas.openxmlformats.org/officeDocument/2006/relationships/hyperlink" Target="http://egipet.uz/category/carstvennost-i-religiya/sarkofagi-i-grobnicy" TargetMode="External"/><Relationship Id="rId9" Type="http://schemas.openxmlformats.org/officeDocument/2006/relationships/hyperlink" Target="http://egipet.uz/category/carstvennost-i-religiya/sarkofagi-i-grobnicy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Comic Sans MS"/>
              </a:rPr>
              <a:t>Загробная жизнь в Древнем Египте: гробницы и саркофаги.</a:t>
            </a: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ыполнила студентка 4 курса филологического факультета Каминская Га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27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Есть ли жизнь после смерти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80773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Что мы узнаем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то такие Анубис и Осирис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к египетские божества участвуют в обряде погребен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такое саркофаг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з чего состоит гробниц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Зачем нам это нужн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расширить представления о культуре и традициях Древнего Егип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понять  и постигнуть особенности мышления египтя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пополнить свои знания, узнав побольше о саркофагах, мумиях, амулетах, гробниц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Представление результатов исследования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ин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ворческое задание – инсцениров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План проек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ведение в тему проекта. Просмотр  презентации уч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этап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иск информации по данной теме. Самостоятельная работа учащих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зентации учеников. Подведение ит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egipet.uz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categor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carstvennost-i-religiya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/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sarkofagi-i-grobni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pavluchenkov.ru/religia_egipta/zagrobniy_cult/index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pyramids.ru/DrEgypt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ru.wikipedia.org/wiki/%D0%94%D1%80%D0%B5%D0%B2%D0%BD%D0%B5%D0%B5%D0%B3%D0%B8%D0%BF%D0%B5%D1%82%D1%81%D0%BA%D0%B0%D1%8F_%D1%80%D0%B5%D0%BB%D0%B8%D0%B3%D0%B8%D1%8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adm.ru/kurort/egipt/stat/stat6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bestreferat.ru/referat-43953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humanities.edu.ru/db/msg/399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tour-to-egypt.ru/2008/11/28/sarkofag-egipet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denis2003.jimdo.com/%D0%B6%D0%B8%D0%B7%D0%BD%D1%8C-%D0%BF%D0%BE%D1%81%D0%BB%D0%B5-%D0%B6%D0%B8%D0%B7%D0%BD%D0%B8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gumer.info/bogoslov_Buks/Relig/korost/18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9:21:1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